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035-F1BC-4AD6-B585-FA3198A1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CEB-6453-4064-BAB5-5898EFED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F33-59AF-440B-BE36-89EE6A6E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0F5-FDA7-46E4-8ED1-697DAEB7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EF07-7835-48BD-86EC-BAA5B018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CD64-12F6-475D-80FA-81204D37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4D1A-52CF-4CA5-A01A-0031C383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43D6-30F6-4EA6-90C4-5E4E7A6A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F08F-CC99-4E34-A219-EDBA46F0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4BC0-B937-4E39-A110-B1A5325E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8162-7744-45A9-926B-607BD8CD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9B8-78F6-4D70-AC01-BB827E4C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DD1D-7FD1-4F7A-B39C-8520E166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E378-70F7-4AC1-A34B-2122CEA4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2E15-82E0-4351-B6DF-21934DB0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B4E0-3B56-49E4-A51B-92779144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0EE7-26BB-42F4-848F-D09E83FB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6B8-1B3B-4A1C-A90F-74883062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797-965E-49B1-86C6-D64BD24B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9C7-40C5-4334-BEEE-617CC232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2D7-CD1B-4772-9A29-FF564447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A1E-5F08-4607-8F33-3BE97D94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D7D-D34B-4E08-BCF7-D769DA98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2C8-E039-4375-817B-C0676E3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D701-B19B-4EDB-82AD-7CEC7A2EC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3DC5-ACCC-472A-BC5E-A3D2737317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7723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The Final Project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Warm-up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 in to the Wiki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ach classmate’s accommodated assignment on his/her wiki page from the Session 8 lin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person’s assignment, click on the discussion tab and leave comments that inclu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things they did wel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 your suggestions for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hecklist for Final Projec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through the checklist for your final projec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ill need to post the following pieces on your Session 9 Wikispace pag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less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d “Co-Teaching Planning Form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accommodated activity or assess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edf2"/>
                </a:solidFill>
                <a:latin typeface="Tahoma"/>
              </a:rPr>
              <a:t>If you finish early…</a:t>
            </a:r>
            <a:endParaRPr b="0" lang="en-US" sz="4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one of the following and wri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flection in your binder about how you can apply what you’ve learn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articles we haven’t read from the Wikispace homep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isunderstood Minds website from Session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s and quizzes on Co-teaching Models from Session 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sites in the Motivation Resource Packet from Session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edf2"/>
                </a:solidFill>
                <a:latin typeface="Tahoma"/>
              </a:rPr>
              <a:t>Closure</a:t>
            </a:r>
            <a:endParaRPr b="0" lang="en-US" sz="6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the comments that your classmates posted from warm-up today (your page on the Session 8 pag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a reflection in your binder based on the comments that were left about your accommodated activ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5:09:17Z</dcterms:created>
  <dc:creator>fcps</dc:creator>
  <dc:description/>
  <dc:language>en-US</dc:language>
  <cp:lastModifiedBy>fcps</cp:lastModifiedBy>
  <dcterms:modified xsi:type="dcterms:W3CDTF">2009-04-01T17:11:59Z</dcterms:modified>
  <cp:revision>3</cp:revision>
  <dc:subject/>
  <dc:title>The Final Project</dc:title>
</cp:coreProperties>
</file>